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53D50-8122-4470-969F-FB084953A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035C-0FCA-4957-817B-45B57BE66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29034-AF96-444E-9082-67CF6B4D0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B41D1-3C16-4A3B-A8E0-8F58D1AF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559E8-6211-4FE0-9D97-29E934238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BB508-B317-4DE7-9859-FF5C9B6C7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D0519-2E38-490F-B49E-5331C2542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DDA0E-0755-443F-A526-68A62F774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638C8-8801-4054-93D9-689238E7E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DC58-CA2C-4049-BB2F-EFB1F91E3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50F35-F684-4802-B71B-4C3042091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7C6AE-EBF3-4EF0-9F42-32CAE01B9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1E13A-E641-4902-907C-DA226957A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3FC93-7068-4BF4-B2F9-142CFAB3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24799-7B9C-499F-BBDF-5D6D70647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8ED4B-FB4D-4525-A767-5281FF38D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C0AAF-0AC6-4E88-8723-86BAE504A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C6A4-AF56-49C4-92BA-C084BCF2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1E49-EF0C-4A1F-A56B-DB74B13CA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AFB7-BBEE-45E7-AED5-C134E1579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2484-6358-41AB-A6EF-A0D6C4D96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70FC-1009-4B3C-ACB8-0DD5BA50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0AF1-5197-4C30-9197-E17F77F3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6A02-1753-4CF4-BA28-C4A6F61E6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DE45-C652-4B90-9710-0FA2A58B3D3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C50D-D3AD-4CA7-892C-074BB5CF26D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907560"/>
            <a:ext cx="8229600" cy="453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70" name=""/>
          <p:cNvGraphicFramePr/>
          <p:nvPr/>
        </p:nvGraphicFramePr>
        <p:xfrm>
          <a:off x="457200" y="1600200"/>
          <a:ext cx="8229600" cy="4848120"/>
        </p:xfrm>
        <a:graphic>
          <a:graphicData uri="http://schemas.openxmlformats.org/drawingml/2006/table">
            <a:tbl>
              <a:tblPr/>
              <a:tblGrid>
                <a:gridCol w="4114800"/>
                <a:gridCol w="4114800"/>
              </a:tblGrid>
              <a:tr h="267012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NORMA MÁS FAVORABLE</a:t>
                      </a:r>
                      <a:endParaRPr b="0" lang="en-US" sz="1400" spc="-1" strike="noStrike">
                        <a:solidFill>
                          <a:srgbClr val="000000"/>
                        </a:solidFill>
                        <a:latin typeface="Times New Roman"/>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CONDICIÓN MÁS BENEFICIO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PRO OPERARIO”</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IRRENUNCIABILIDAD DE DERECHO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33300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7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o acordado en el contrato</a:t>
            </a:r>
            <a:r>
              <a:rPr b="0" lang="en-US" sz="1600" spc="-1" strike="noStrike">
                <a:solidFill>
                  <a:srgbClr val="000000"/>
                </a:solidFill>
                <a:latin typeface="Comic Sans MS"/>
              </a:rPr>
              <a:t> </a:t>
            </a:r>
            <a:endParaRPr b="0" lang="en-US" sz="1600" spc="-1" strike="noStrike">
              <a:solidFill>
                <a:srgbClr val="000000"/>
              </a:solidFill>
              <a:latin typeface="Tahoma"/>
            </a:endParaRPr>
          </a:p>
        </p:txBody>
      </p:sp>
      <p:sp>
        <p:nvSpPr>
          <p:cNvPr id="174" name=""/>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1120" y="325080"/>
            <a:ext cx="76276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57"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58"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1120" y="463680"/>
            <a:ext cx="762768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MEN DEPENDENCI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64" name="PlaceHolder 2"/>
          <p:cNvSpPr>
            <a:spLocks noGrp="1"/>
          </p:cNvSpPr>
          <p:nvPr>
            <p:ph/>
          </p:nvPr>
        </p:nvSpPr>
        <p:spPr>
          <a:xfrm>
            <a:off x="684000" y="1052640"/>
            <a:ext cx="3811320" cy="4249440"/>
          </a:xfrm>
          <a:prstGeom prst="rect">
            <a:avLst/>
          </a:prstGeom>
          <a:noFill/>
          <a:ln w="0">
            <a:noFill/>
          </a:ln>
        </p:spPr>
        <p:txBody>
          <a:bodyPr lIns="90000" rIns="90000" tIns="46800" bIns="46800" anchor="t">
            <a:normAutofit fontScale="99000"/>
          </a:bodyPr>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a:t>
            </a:r>
            <a:endParaRPr b="0" lang="en-US" sz="2400" spc="-1" strike="noStrike">
              <a:solidFill>
                <a:srgbClr val="000000"/>
              </a:solidFill>
              <a:latin typeface="Tahoma"/>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lamentos y Directiva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itución</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gánica</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dinaria</a:t>
            </a:r>
            <a:endParaRPr b="0" lang="en-US" sz="1400" spc="-1" strike="noStrike">
              <a:solidFill>
                <a:srgbClr val="000000"/>
              </a:solidFill>
              <a:latin typeface="Tahoma"/>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creto-ley</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Legisla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den Ministerial</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 Colectiv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ato de trabajo</a:t>
            </a:r>
            <a:endParaRPr b="0" lang="en-US" sz="1400" spc="-1" strike="noStrike">
              <a:solidFill>
                <a:srgbClr val="000000"/>
              </a:solidFill>
              <a:latin typeface="Tahoma"/>
            </a:endParaRPr>
          </a:p>
          <a:p>
            <a:pPr marL="339480" indent="-3394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o y costumbre</a:t>
            </a:r>
            <a:endParaRPr b="0" lang="en-US" sz="1400" spc="-1" strike="noStrike">
              <a:solidFill>
                <a:srgbClr val="000000"/>
              </a:solidFill>
              <a:latin typeface="Tahoma"/>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5" name="PlaceHolder 3"/>
          <p:cNvSpPr>
            <a:spLocks noGrp="1"/>
          </p:cNvSpPr>
          <p:nvPr>
            <p:ph/>
          </p:nvPr>
        </p:nvSpPr>
        <p:spPr>
          <a:xfrm>
            <a:off x="4427280" y="112536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ejo de Ministros- (Ejecutivo)</a:t>
            </a: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inistros (Ejecutivo)</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447920" y="533520"/>
            <a:ext cx="6296040" cy="5438520"/>
          </a:xfrm>
          <a:prstGeom prst="rect">
            <a:avLst/>
          </a:prstGeom>
          <a:ln w="0">
            <a:noFill/>
          </a:ln>
        </p:spPr>
      </p:pic>
      <p:sp>
        <p:nvSpPr>
          <p:cNvPr id="2" name="PlaceHolder 1"/>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68"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Maribel</cp:lastModifiedBy>
  <dcterms:modified xsi:type="dcterms:W3CDTF">2011-09-20T08:11:40Z</dcterms:modified>
  <cp:revision>11</cp:revision>
  <dc:subject/>
  <dc:title>INTRODUCCIÓN AL DERECHO DEL TRABAJO</dc:title>
</cp:coreProperties>
</file>